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259B-A7BC-4A11-B0F6-552F4831CFD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Confede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udenosaunee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nda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haw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ec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yu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sca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Iroquois Confederacy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Haudenosaunee Trib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onda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Mohawk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Senec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eid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Cayu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uscaror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ing of the Iroqu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1570, Hiawatha (an Onondaga chief) and Dekanawida (a Mohawk Chief) decided to stop their tribes from f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ve nations formed the Iroquois Leag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ming of the Iroquoi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round 1570, Hiawatha (an Onondaga chief) and Dekanawida (a Mohawk Chief) decided to stop their tribes from fighting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ive nations formed the Iroquois Leagu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live in peac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d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go to war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ribe elected Sachems to run the Confede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ind ourselves together by taking hold of each other’s hands. …  Our strength shall be in union. …  Carry no anger and hold no grudg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Principl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live in peac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trad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go to war TOGE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Each tribe elected Sachems to run the Confederacy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 foot long houses that held 10-20 families.  Each family had a section of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owned the longhouses and a husband would move into his wife’s mother’s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Long Hous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100 foot long houses that held 10-20 families.  Each family had a section of the 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omen owned the longhouses and a husband would move into his wife’s mother’s long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THREE SISTERS” of corn, beans and squash were farmed by the wo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beaver, and moose were hunted by the 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Culture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“THREE SISTERS” of corn, beans and squash were farmed by the women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Deer, beaver, and moose were hunted by the men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razing land for he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est provid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animals gave the Iroquois food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needed crops they could store for the long winter in a temperate clim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ort growing season allowed for the 3 sisters to g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effect of ENVIRONMENT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No grazing land for herd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est provided wood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Forest animals gave the Iroquois food and clothing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needed crops they could store for the long winter in a temperate climat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 short growing season allowed for the 3 sisters to grow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0C3-3F91-4479-B7F7-73B05F5C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ECC-672F-4FD8-8DCD-FF4A53DE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123-2EF0-4329-A3CA-5AF0D5EB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75E9-5748-407C-856C-E47C34F3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13F9-A7ED-401A-B500-7C9249E9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2FB7-576A-4CDA-9583-0D7B91E3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E2B7-4129-41F0-8702-EC528185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4A28-92DC-4564-958B-84FEF806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3CBB-6877-4B98-A554-DDF3700B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8148-E9D9-4949-A47F-1B796CAF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2339-0376-4B06-BF0C-E41EA93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8FD-7AE2-4D6E-AC27-3BE99B7A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7AE6-672C-4086-B972-EA68CB70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7BBF-4C5D-4D39-B0DD-F914C433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393F-2EDF-481A-A9A3-F70E1841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0CBA-E7FB-47B1-B055-BCEB7679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D753-7EE8-4FA5-8E8A-648010E4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078-05A3-4098-B80C-2BABB3BA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F70-0C16-435E-BDFC-9A4A8A0D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70C-2135-4261-9A69-44FD3846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7A2-7DC2-44B3-BEF4-3FC03D08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6FC-733C-4723-85B9-7BEAF8BA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121-2588-4010-A920-5C84A825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940-B374-4C60-96F8-27A11F3F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D950-348C-4808-9223-B6411A4B994C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86EE-5B3F-4AF7-AB8D-01C40481C9DA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Iroquois Confederac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26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udenosaunee Tri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Onondaga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Mohaw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Senec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One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Cayug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scar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4320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Forming of the Iroquois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ound 1570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awat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n Onondaga chief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kanaw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 Mohawk Chief) decided to stop their tribes from f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ve nations formed the Iroquois Leag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20" t="0" r="13470" b="0"/>
          <a:stretch/>
        </p:blipFill>
        <p:spPr>
          <a:xfrm>
            <a:off x="1752480" y="5029200"/>
            <a:ext cx="7086600" cy="13971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Principl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live in peac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trad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go to war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OGETHER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Each tribe elected Sachems to run the Confede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  <a:ea typeface="Arial"/>
              </a:rPr>
              <a:t>Long Hous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 foot long houses that held 10-20 families.  Each family had a section of the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omen owned the longhouses and a husband would move into his wife’s mother’s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2194" t="0" r="2194" b="0"/>
          <a:stretch/>
        </p:blipFill>
        <p:spPr>
          <a:xfrm>
            <a:off x="3200400" y="4084560"/>
            <a:ext cx="5562720" cy="25066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Cultu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3778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“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REE SISTERS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” of corn, beans and squash were farmed by the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600200" y="4267080"/>
            <a:ext cx="37749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er, beaver, and moose were hunted by the me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1995480" cy="198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5638680" y="2133720"/>
            <a:ext cx="1568520" cy="443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The effect of 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ENVIRONMEN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No grazing land for he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 forest provided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Forest animals gave the Iroquois food and cl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y needed crops they could store for the long winter in a temperate cli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A short growing season allowed for the 3 sisters to grow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01:28:12Z</dcterms:created>
  <dc:creator>David &amp; Diana Hills</dc:creator>
  <dc:description/>
  <dc:language>en-US</dc:language>
  <cp:lastModifiedBy>Legion</cp:lastModifiedBy>
  <dcterms:modified xsi:type="dcterms:W3CDTF">2017-07-05T11:16:58Z</dcterms:modified>
  <cp:revision>9</cp:revision>
  <dc:subject/>
  <dc:title>The Iroquois Confederacy</dc:title>
</cp:coreProperties>
</file>